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24165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3833640" y="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907560" y="742680"/>
            <a:ext cx="49532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8"/>
          </p:nvPr>
        </p:nvSpPr>
        <p:spPr>
          <a:xfrm>
            <a:off x="-360" y="94089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9"/>
          </p:nvPr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35C6-2E21-472F-BCFA-27FAF23198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C47F-5FDC-4A85-83D7-9114AB70EB25}" type="slidenum">
              <a:rPr b="0" lang="en-US" sz="1200" spc="-1" strike="noStrike">
                <a:solidFill>
                  <a:srgbClr val="02416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24165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ADF-ABD1-4D08-A918-1FCA1FC4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8C8-68D2-40E2-A72F-05C08103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F25-9360-4927-A442-3E35DC3E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05CC-5D1F-49EC-8D85-EA36A9A4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C1D9-6863-47AA-BB96-D9B7EB33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D6E-4217-49CE-9E3E-0EF1B428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E98-5450-4079-95EE-E57CA5B6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B39-BE19-4EBF-9F95-E4276779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02A-8E85-4141-805E-8995BC73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B1A-9668-4618-960E-6280D46C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205-EB97-4B48-8645-9D06A150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EE6-3379-4D69-81D6-5DFFC89C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3682-DAC3-43DA-8379-92F6D068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31F6-A9FC-4E76-86E8-E72135C3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3538-B8B1-473E-9D25-321EDD2B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3BFB-A862-4DCF-B565-30F961AD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6D2F-F96D-4471-90B6-49479BCF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079A-D5AA-460E-A5AD-07A7DDBC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91E6-4DE3-460D-B4B9-C35110BC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33C1-D216-44DE-BECA-3DC74127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9805-1053-4912-A5AD-AE116C30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3F80-FDC5-4C60-8D0A-8D9B1867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A99E-3112-41E9-9B2A-6D26C99A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E5C7-A0C2-4769-BB9F-EDC91A04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9880" y="33480"/>
            <a:ext cx="610704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8600" y="1101600"/>
            <a:ext cx="752292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1001"/>
              </a:spcBef>
              <a:buClr>
                <a:srgbClr val="5b96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1001"/>
              </a:spcBef>
              <a:buClr>
                <a:srgbClr val="5b96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28680" indent="-228600">
              <a:spcBef>
                <a:spcPts val="1001"/>
              </a:spcBef>
              <a:buClr>
                <a:srgbClr val="5b96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36560" indent="-228600">
              <a:spcBef>
                <a:spcPts val="1001"/>
              </a:spcBef>
              <a:buClr>
                <a:srgbClr val="5b96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5b96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2416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2416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24165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304B-705E-49BA-AB57-DE179A98DBA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24165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F386-DFF7-4ED8-9483-2871026C97B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2416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1760" y="16002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760027"/>
                </a:solidFill>
                <a:latin typeface="Tw Cen MT"/>
              </a:rPr>
              <a:t>Introduction to Social Network Analysis</a:t>
            </a:r>
            <a:r>
              <a:rPr b="1" lang="en-GB" sz="36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Tw Cen MT"/>
              </a:rPr>
              <a:t> </a:t>
            </a:r>
            <a:br>
              <a:rPr sz="36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33"/>
                </a:solidFill>
                <a:latin typeface="Tw Cen MT"/>
              </a:rPr>
              <a:t>Possible applications of S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280" y="1676520"/>
            <a:ext cx="764244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Within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Identify innovative produc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Identify other projects with similar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In value cha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In innovation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In organis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Know what is happening in different departments within an institution (organigrams are a poor reflection of information flo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Relationships with field offices and oth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0280" y="246240"/>
            <a:ext cx="721836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900" spc="-1" strike="noStrike">
                <a:solidFill>
                  <a:srgbClr val="660033"/>
                </a:solidFill>
                <a:latin typeface="Tw Cen MT"/>
              </a:rPr>
              <a:t>How can SNA help us with our work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160920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dentify existing information flows and bottlenecks to understand which groups have access to information and which groups are excluded from access to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dentify actors who play similar roles in the net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dentify disconnected groups in the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dentify opinion leaders who will be able to effectively disseminate information and promote inno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Your suggestions…..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79400" y="1187280"/>
            <a:ext cx="3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24165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24165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900" spc="-1" strike="noStrike">
                <a:solidFill>
                  <a:srgbClr val="660033"/>
                </a:solidFill>
                <a:latin typeface="Tw Cen MT"/>
              </a:rPr>
              <a:t>Group Discus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1124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Tw Cen MT"/>
              </a:rPr>
              <a:t>SNA uses data about relationships between a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BO" sz="2600" spc="-1" strike="noStrike">
                <a:solidFill>
                  <a:srgbClr val="000000"/>
                </a:solidFill>
                <a:latin typeface="Tw Cen MT"/>
              </a:rPr>
              <a:t>Please work in groups and discu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Tw Cen MT"/>
              </a:rPr>
              <a:t>Which actors do we work with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Tw Cen MT"/>
              </a:rPr>
              <a:t>What is the nature of the relationships between th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Tw Cen MT"/>
              </a:rPr>
              <a:t>What would be the advantage for our projects of being able to visualise these relationship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Tw Cen MT"/>
              </a:rPr>
              <a:t>As development professionals what is our own relationship to these different group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09120" y="2471760"/>
            <a:ext cx="77742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800" spc="-1" strike="noStrike">
                <a:solidFill>
                  <a:srgbClr val="000000"/>
                </a:solidFill>
                <a:latin typeface="Tw Cen MT"/>
              </a:rPr>
              <a:t>Thank you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85960" y="245880"/>
            <a:ext cx="495144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900" spc="-1" strike="noStrike">
                <a:solidFill>
                  <a:srgbClr val="660033"/>
                </a:solidFill>
                <a:latin typeface="Tw Cen MT"/>
              </a:rPr>
              <a:t>Network The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5920" y="1227240"/>
            <a:ext cx="76057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conomic activity is intrinsically related to social structures which has led to development agencies’ interest in social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position of an actor in the network influences their ability to access resources such as goods, capital an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ell connected actors have better access to information and other resources and therefore have more opportunities than less well connected 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33240" y="617040"/>
            <a:ext cx="64137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33"/>
                </a:solidFill>
                <a:latin typeface="Tw Cen MT"/>
              </a:rPr>
              <a:t>What is social network analysis (SNA)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5160" y="1773000"/>
            <a:ext cx="85136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etworks are created by the relationships between different 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NA examines the relationships between actors and the social structures in which they interact to gain a better understanding of actors’ roles within the social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NA is the study of how the ties in networks create opportunities and restrictions which affect both individual and institutional access to resources such as information, finance, goods and po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900" spc="-1" strike="noStrike">
                <a:solidFill>
                  <a:srgbClr val="660033"/>
                </a:solidFill>
                <a:latin typeface="Tw Cen MT"/>
              </a:rPr>
              <a:t>Factors to consider during survey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eep questions short and simple and avoid collecting data that will not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idea of this diagnostic approach is to obtain the maximum information in minimal time to get a birds eye view of the areas where we are work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5943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900" spc="-1" strike="noStrike">
                <a:solidFill>
                  <a:srgbClr val="660033"/>
                </a:solidFill>
                <a:latin typeface="Tw Cen MT"/>
              </a:rPr>
              <a:t>Sample Survey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6600" y="1452600"/>
          <a:ext cx="7783200" cy="2335320"/>
        </p:xfrm>
        <a:graphic>
          <a:graphicData uri="http://schemas.openxmlformats.org/drawingml/2006/table">
            <a:tbl>
              <a:tblPr/>
              <a:tblGrid>
                <a:gridCol w="2358720"/>
                <a:gridCol w="2325960"/>
                <a:gridCol w="3098520"/>
              </a:tblGrid>
              <a:tr h="136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Actor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(Information source)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Information obtained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Communication media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635040" y="4259160"/>
          <a:ext cx="7700760" cy="2355840"/>
        </p:xfrm>
        <a:graphic>
          <a:graphicData uri="http://schemas.openxmlformats.org/drawingml/2006/table">
            <a:tbl>
              <a:tblPr/>
              <a:tblGrid>
                <a:gridCol w="2199960"/>
                <a:gridCol w="2220840"/>
                <a:gridCol w="3279960"/>
              </a:tblGrid>
              <a:tr h="136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Actor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(Information source)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Information obtained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How useful?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1=min, 5=max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1     2     3     4    5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1     2     3     4    5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609480" y="7621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24165"/>
                </a:solidFill>
                <a:latin typeface="Tw Cen MT"/>
              </a:rPr>
              <a:t>Survey with 2 variables</a:t>
            </a:r>
            <a:endParaRPr b="0" lang="en-US" sz="2400" spc="-1" strike="noStrike">
              <a:solidFill>
                <a:srgbClr val="024165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2760" y="388296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24165"/>
                </a:solidFill>
                <a:latin typeface="Tw Cen MT"/>
              </a:rPr>
              <a:t>Valued survey</a:t>
            </a:r>
            <a:endParaRPr b="0" lang="en-US" sz="2400" spc="-1" strike="noStrike">
              <a:solidFill>
                <a:srgbClr val="024165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33"/>
                </a:solidFill>
                <a:latin typeface="Tw Cen MT"/>
              </a:rPr>
              <a:t>Linkage maps and matri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ctor linkage matrices (Biggs and Matsaert,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ocial Network Analysis Using UCINET (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Steve Borgatti, Martin Everett and Lin Freem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w Cen MT"/>
              </a:rPr>
              <a:t>Examples (FAP, 2010 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0" y="1719360"/>
          <a:ext cx="9144000" cy="4854600"/>
        </p:xfrm>
        <a:graphic>
          <a:graphicData uri="http://schemas.openxmlformats.org/drawingml/2006/table">
            <a:tbl>
              <a:tblPr/>
              <a:tblGrid>
                <a:gridCol w="1913040"/>
                <a:gridCol w="804600"/>
                <a:gridCol w="803520"/>
                <a:gridCol w="803160"/>
                <a:gridCol w="801720"/>
                <a:gridCol w="804960"/>
                <a:gridCol w="801720"/>
                <a:gridCol w="804600"/>
                <a:gridCol w="803520"/>
                <a:gridCol w="80316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OoARD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DZARC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IPMS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FAP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EMDTI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Ada’a Dairy Cooperatives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Hundae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Land O Lakes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Eden Field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OoARD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NA*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DZARC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NA*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IPMS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NA*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FAP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NA*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EMDTI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NA*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Hundae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NA*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Land o Lakes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NA*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Eden Field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NA*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2080"/>
            <a:ext cx="82677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0033"/>
                </a:solidFill>
                <a:latin typeface="Tw Cen MT"/>
              </a:rPr>
              <a:t>UCINET Net Map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301760" y="1400040"/>
            <a:ext cx="6692760" cy="5150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208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33"/>
                </a:solidFill>
                <a:latin typeface="Tw Cen MT"/>
              </a:rPr>
              <a:t>SNA in rural develop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9760" y="1455840"/>
            <a:ext cx="79848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ocio-institutional framework in rural communities is incredibly complex with interactions between grassroots groups, NGOs, public and private sector institutions who can operate at local, regional, national or international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s is now recognised in work to promote ‘innovation platforms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udying networks can help us to understand the social structures and characteristics of relationships between the actors and institutions in the areas where we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NA can help identify the key actors who can support us in our work or obstruct our eff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5:25:37Z</dcterms:created>
  <dc:creator>Kebebe Ergano</dc:creator>
  <dc:description/>
  <dc:language>en-US</dc:language>
  <cp:lastModifiedBy>kergano</cp:lastModifiedBy>
  <dcterms:modified xsi:type="dcterms:W3CDTF">2010-11-07T21:46:33Z</dcterms:modified>
  <cp:revision>500</cp:revision>
  <dc:subject>Social Network Analysis</dc:subject>
  <dc:title>CPWF-N2 training Nov, 2010</dc:title>
</cp:coreProperties>
</file>